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438-B186-4885-829C-E801482F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886-2850-46F5-901C-0DDFCA0D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E75-CE60-4E34-9A76-846446C4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D96-7DC9-43E8-B615-2473B798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622-1A5A-4058-A417-D07AAED7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756-2088-4FF2-B4D1-E53E4717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4B8-3506-4E86-AB91-F917389C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EDB-5982-4729-A76C-3E569B38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8E0-3B28-416B-882A-DE529FCC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B24-371B-4243-BD8F-807BE75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187-02E1-4E3A-B029-A5ED038B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06E-17C3-44EF-8943-D7092DFC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424F-FED4-4E4C-9DB5-5760719C1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ff"/>
                </a:solidFill>
                <a:latin typeface="Times New Roman"/>
              </a:rPr>
              <a:t>Inquinamento atmosferico da trasporti in ambito urbano e sa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cc"/>
                </a:solidFill>
                <a:latin typeface="Times New Roman"/>
              </a:rPr>
              <a:t>Pio Russo Kra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cc"/>
                </a:solidFill>
                <a:latin typeface="Times New Roman"/>
              </a:rPr>
              <a:t>Responsabile Centro di Documentazione e Ricerca sull´Ambiente e la Sal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cc"/>
                </a:solidFill>
                <a:latin typeface="Times New Roman"/>
              </a:rPr>
              <a:t>ASL Napoli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imes New Roman"/>
              </a:rPr>
              <a:t>Principali fonti di emissione (%)     </a:t>
            </a:r>
            <a:r>
              <a:rPr b="1" lang="it-IT" sz="2000" spc="-1" strike="noStrike">
                <a:solidFill>
                  <a:srgbClr val="3333ff"/>
                </a:solidFill>
                <a:latin typeface="Times New Roman"/>
              </a:rPr>
              <a:t>fonte AN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4360" y="1557360"/>
          <a:ext cx="8135640" cy="4937040"/>
        </p:xfrm>
        <a:graphic>
          <a:graphicData uri="http://schemas.openxmlformats.org/drawingml/2006/table">
            <a:tbl>
              <a:tblPr/>
              <a:tblGrid>
                <a:gridCol w="2232000"/>
                <a:gridCol w="1137960"/>
                <a:gridCol w="954360"/>
                <a:gridCol w="879480"/>
                <a:gridCol w="806400"/>
                <a:gridCol w="963720"/>
                <a:gridCol w="11617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on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M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O</a:t>
                      </a:r>
                      <a:r>
                        <a:rPr b="1" lang="de-DE" sz="26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O</a:t>
                      </a:r>
                      <a:r>
                        <a:rPr b="1" lang="de-DE" sz="26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de-DE" sz="26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N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raspor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ltri traspor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entra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dustri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iscaldamen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Times New Roman"/>
              </a:rPr>
              <a:t>Inquinanti emessi per trasportare un passeggero per 1 Km in Italia (1,2 auto, 15 autobus, 1 ciclomotore) (fonte: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APAT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2276640"/>
          <a:ext cx="8569080" cy="4140000"/>
        </p:xfrm>
        <a:graphic>
          <a:graphicData uri="http://schemas.openxmlformats.org/drawingml/2006/table">
            <a:tbl>
              <a:tblPr/>
              <a:tblGrid>
                <a:gridCol w="3600360"/>
                <a:gridCol w="1152360"/>
                <a:gridCol w="1150920"/>
                <a:gridCol w="1224000"/>
                <a:gridCol w="1441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M</a:t>
                      </a:r>
                      <a:r>
                        <a:rPr b="1" lang="it-IT" sz="28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uto non catali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uto euro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Bus non catali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Bus euro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iclomot. non catal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iclomot. euro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Metrò </a:t>
                      </a:r>
                      <a:r>
                        <a:rPr b="1" lang="it-IT" sz="2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T.E. 198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imes New Roman"/>
              </a:rPr>
              <a:t>Consumo d'energia per trasportare una tonnellata per un Km (gep/t/km)</a:t>
            </a:r>
            <a:r>
              <a:rPr b="1" lang="it-IT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it-IT" sz="2400" spc="-1" strike="noStrike">
                <a:solidFill>
                  <a:srgbClr val="3333ff"/>
                </a:solidFill>
                <a:latin typeface="Times New Roman"/>
              </a:rPr>
              <a:t>(Trasport and enviroment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2565360"/>
          <a:ext cx="7772400" cy="1727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am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5-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errov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a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ff"/>
                </a:solidFill>
                <a:latin typeface="Times New Roman"/>
              </a:rPr>
              <a:t>Stima dei costi esterni in euro del trasporto di 1000 passeggeri per un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557360"/>
          <a:ext cx="8640720" cy="3230640"/>
        </p:xfrm>
        <a:graphic>
          <a:graphicData uri="http://schemas.openxmlformats.org/drawingml/2006/table">
            <a:tbl>
              <a:tblPr/>
              <a:tblGrid>
                <a:gridCol w="1728720"/>
                <a:gridCol w="3236760"/>
                <a:gridCol w="3675240"/>
              </a:tblGrid>
              <a:tr h="155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quinamento atmosferico e incid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Trasport and enviroment USA 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q. atmosferico e acustico, incidenti, ore pe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AdT Italia 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utomob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er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ren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755640" y="51577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Stima del costo dell’inquinamento  dovuto al trasporto su gomma: 37.000 milioni di eu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(ExternE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ff"/>
                </a:solidFill>
                <a:latin typeface="Times New Roman"/>
              </a:rPr>
              <a:t>Costo del trasporto di 1000 tonnellate di merci per un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1916280"/>
          <a:ext cx="8064360" cy="4333680"/>
        </p:xfrm>
        <a:graphic>
          <a:graphicData uri="http://schemas.openxmlformats.org/drawingml/2006/table">
            <a:tbl>
              <a:tblPr/>
              <a:tblGrid>
                <a:gridCol w="1712880"/>
                <a:gridCol w="3176640"/>
                <a:gridCol w="3174840"/>
              </a:tblGrid>
              <a:tr h="206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quinamento atmosferico e incid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Trasport and enviroment USA 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q. atmosferico e acustico, incidenti, ore pe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AdT 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am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ren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imes New Roman"/>
              </a:rPr>
              <a:t>% di merci trasportate su ferrov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1700280"/>
          <a:ext cx="7772400" cy="4140000"/>
        </p:xfrm>
        <a:graphic>
          <a:graphicData uri="http://schemas.openxmlformats.org/drawingml/2006/table">
            <a:tbl>
              <a:tblPr/>
              <a:tblGrid>
                <a:gridCol w="2376360"/>
                <a:gridCol w="1368360"/>
                <a:gridCol w="1368360"/>
                <a:gridCol w="1295640"/>
                <a:gridCol w="1363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t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r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Germ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pa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gno Un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vizz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vezi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7138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3333ff"/>
                </a:solidFill>
                <a:latin typeface="Times New Roman"/>
              </a:rPr>
              <a:t>Spesa per investimenti in conto capitale in infrastrutture di trasporto tra il 1970 e il 1995 in Italia (totale 165.000 miliardi di lire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2492280"/>
          <a:ext cx="7772400" cy="3827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tra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6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errovi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5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or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eroporti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ff"/>
                </a:solidFill>
                <a:latin typeface="Times New Roman"/>
              </a:rPr>
              <a:t>Chi paga i costi dell´au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Gettito fiscale totale del trasporto su gomma nel 2004:  58 miliardi di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Spesa pubblica per l´intero sistema dei trasporti: 40 miliardi di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Costi esterni del trasporto su gomma 84 miliardi di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Deficit 66 miliardi (124 – 58 = 66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6237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Fonti: ACI, MdT, AdT: anno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In 10 anni il parco autovetture è aumentato del 2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35 milioni di autovetture, 4 milioni di autocarri, 9 milioni di motocicli. Un veicolo ogni 1,2 abitant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L’Italia è al 2° posto per auto/abitante e al 1° posto per auto/Km</a:t>
            </a:r>
            <a:r>
              <a:rPr b="1" lang="it-IT" sz="2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A Napoli 5.241 auto/km</a:t>
            </a:r>
            <a:r>
              <a:rPr b="1" lang="it-IT" sz="2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4292640"/>
          <a:ext cx="7697160" cy="1882800"/>
        </p:xfrm>
        <a:graphic>
          <a:graphicData uri="http://schemas.openxmlformats.org/drawingml/2006/table">
            <a:tbl>
              <a:tblPr/>
              <a:tblGrid>
                <a:gridCol w="3848400"/>
                <a:gridCol w="38487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Lond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.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Mona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79280" y="3141720"/>
            <a:ext cx="89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Times New Roman"/>
              </a:rPr>
              <a:t>Offerta di trasporto pubblico                                              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(milioni di postiKm per anno/km</a:t>
            </a:r>
            <a:r>
              <a:rPr b="1" lang="it-IT" sz="24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cc"/>
                </a:solidFill>
                <a:latin typeface="Times New Roman"/>
              </a:rPr>
              <a:t>1) rinnovo parco auto e moto da convenzionale ad euro 1 e 2 </a:t>
            </a:r>
            <a:br>
              <a:rPr sz="2300"/>
            </a:br>
            <a:r>
              <a:rPr b="1" lang="it-IT" sz="2300" spc="-1" strike="noStrike">
                <a:solidFill>
                  <a:srgbClr val="003300"/>
                </a:solidFill>
                <a:latin typeface="Times New Roman"/>
              </a:rPr>
              <a:t>2) rinnovo del parco veicoli pubblici da convenzionale ad euro 1 e 2</a:t>
            </a:r>
            <a:br>
              <a:rPr sz="2300"/>
            </a:br>
            <a:r>
              <a:rPr b="1" lang="it-IT" sz="2300" spc="-1" strike="noStrike">
                <a:solidFill>
                  <a:srgbClr val="cc3300"/>
                </a:solidFill>
                <a:latin typeface="Times New Roman"/>
              </a:rPr>
              <a:t>3) aumento dei fattori di occupazione (persone/veicolo): auto da 1,2 a 1,7; moto da 1 a 1.2, autobus e tram da 15 a 1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(APAT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2852640"/>
          <a:ext cx="8640720" cy="3816360"/>
        </p:xfrm>
        <a:graphic>
          <a:graphicData uri="http://schemas.openxmlformats.org/drawingml/2006/table">
            <a:tbl>
              <a:tblPr/>
              <a:tblGrid>
                <a:gridCol w="1551240"/>
                <a:gridCol w="812520"/>
                <a:gridCol w="959040"/>
                <a:gridCol w="960480"/>
                <a:gridCol w="812880"/>
                <a:gridCol w="960120"/>
                <a:gridCol w="812880"/>
                <a:gridCol w="885960"/>
                <a:gridCol w="88560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cenari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3333cc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3333cc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Scenario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Scenario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24000" y="189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Times New Roman"/>
              </a:rPr>
              <a:t>Valori minimi e massimi di riduzione delle emissioni per tre scenari: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imes New Roman"/>
              </a:rPr>
              <a:t>Principali inquinanti presenti nell’aria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Polveri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: sostanze cancerogene, irritanti, tossiche e allergizz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Ossidi di azoto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(NOx)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 sono gas irri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Ossido di carbonio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(CO) 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impedisce il trasporto dell’ossigeno alle cell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composti organici volatili (C.O.V.)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 cancerogene, irritanti, toss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Ossido di zolfo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: è un gas irri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ff"/>
                </a:solidFill>
                <a:latin typeface="Times New Roman"/>
              </a:rPr>
              <a:t>Che 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contrastare ogni forma di finanziamento al trasporto priv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smettere di costruire nuove autostrade, ponti, trafori, tangenziali, svincoli, parcheg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promuovere reti di trasporti pubblici comodi ed efficienti a livello comunale, provinciale, regionale e n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attuare una politica urbanistica che contrasti la “cittá spuzzata”, il pendolarismo, la mobilitá ecces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favorire la pedonalitá e la ciclabilit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ff"/>
                </a:solidFill>
                <a:latin typeface="Times New Roman"/>
              </a:rPr>
              <a:t>Cosa possiamo fare no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diffondere queste conoscenze</a:t>
            </a:r>
            <a:r>
              <a:rPr b="0" lang="it-IT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sostenere le organizzazioni che si battono per una mobilità sostenibi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non farsi prendere dalla “automobilite”</a:t>
            </a:r>
            <a:r>
              <a:rPr b="0" lang="it-IT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e curarsi si è affetti da tale “grave patologia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fare pressione su Comune, Regione, Provincia per una mobilità sostenib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opporsi ai progetti di costruzione di nuove strade, tangenziali, tunnel, parchegg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pretendere una politica che incentivi fortemente il trasporto collettivo e il trasporto merci su ferro e su acqua</a:t>
            </a:r>
            <a:r>
              <a:rPr b="0" lang="it-IT" sz="26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ff"/>
                </a:solidFill>
                <a:latin typeface="Times New Roman"/>
              </a:rPr>
              <a:t>Graz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Pio Russo Kra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cedras@aslna1.napoli.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ff"/>
                </a:solidFill>
                <a:latin typeface="Times New Roman"/>
              </a:rPr>
              <a:t>Gli studi sugli anima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Infiammazione dell´apparato respiratorio, perdita delle ciglia vibratili, aumento della produzione di muco, displasia, neopl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925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ff"/>
                </a:solidFill>
                <a:latin typeface="Times New Roman"/>
              </a:rPr>
              <a:t>Quanto influisce l´inquinamento atmosferico sulla nostra salute?</a:t>
            </a:r>
            <a:br>
              <a:rPr sz="4400"/>
            </a:br>
            <a:br>
              <a:rPr sz="1600"/>
            </a:br>
            <a:r>
              <a:rPr b="1" lang="de-DE" sz="4400" spc="-1" strike="noStrike">
                <a:solidFill>
                  <a:srgbClr val="3333ff"/>
                </a:solidFill>
                <a:latin typeface="Times New Roman"/>
              </a:rPr>
              <a:t>Quanto è il rischio di respirare aria inquinata? </a:t>
            </a:r>
            <a:br>
              <a:rPr sz="4400"/>
            </a:br>
            <a:br>
              <a:rPr sz="1600"/>
            </a:br>
            <a:r>
              <a:rPr b="1" lang="de-DE" sz="4400" spc="-1" strike="noStrike">
                <a:solidFill>
                  <a:srgbClr val="3333ff"/>
                </a:solidFill>
                <a:latin typeface="Times New Roman"/>
              </a:rPr>
              <a:t>Quanti morti provoca l´inquinamento atmosfer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imes New Roman"/>
              </a:rPr>
              <a:t>Studi epidemiolog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studio trasversale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: es. quanti tumori a Milano, quanti nei valligiani delle Alpi.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Poco indi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studio delle serie storiche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: es. quanti infarti al giorno in rapporto con tasso di inquinamento (Misa 1 e Misa 2).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Indicativo solo per effetti ac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studio caso-controllo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: quanti ammalati abitano in zone inquinate, quanti sani abitano in zone inquinate.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Indicativo per casi acuti e cron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studio di coorte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: controllare per vari anni gruppi di persone che abitano in zone inquinate e no e poi contare quanti si ammalano di tumore nel primo e secondo gruppo.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Molto indicativo per casi acuti e cron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studio sperimentale (controllato):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 esporre in condizioni standardizzate decise dal ricercatore gruppi di individui a diversi livelli noti di inquinanti.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stremamente indicativo ma possibile solo su anim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Times New Roman"/>
              </a:rPr>
              <a:t>Prevalenza dell´asma e della rinite allergica in adulti abitanti a Verona e nelle campagne vicino Ve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9920" y="6399360"/>
            <a:ext cx="549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Arial"/>
              </a:rPr>
              <a:t>C </a:t>
            </a:r>
            <a:r>
              <a:rPr b="1" lang="it-IT" sz="1600" spc="-1" strike="noStrike">
                <a:solidFill>
                  <a:srgbClr val="3333ff"/>
                </a:solidFill>
                <a:latin typeface="Arial"/>
              </a:rPr>
              <a:t>Campello, M Ferrari, A Poli et al. </a:t>
            </a:r>
            <a:r>
              <a:rPr b="1" i="1" lang="it-IT" sz="1600" spc="-1" strike="noStrike">
                <a:solidFill>
                  <a:srgbClr val="3333ff"/>
                </a:solidFill>
                <a:latin typeface="Arial"/>
              </a:rPr>
              <a:t>Arch Chest Dis</a:t>
            </a:r>
            <a:r>
              <a:rPr b="1" lang="it-IT" sz="1600" spc="-1" strike="noStrike">
                <a:solidFill>
                  <a:srgbClr val="3333ff"/>
                </a:solidFill>
                <a:latin typeface="Arial"/>
              </a:rPr>
              <a:t>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32000" y="1341360"/>
          <a:ext cx="759600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7596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64072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ff"/>
                </a:solidFill>
                <a:latin typeface="Times New Roman"/>
              </a:rPr>
              <a:t>Stima del numero di morti e malattie attribuibili all´effetto a breve termine dell’inquinamento atmosferico a Napoli </a:t>
            </a:r>
            <a:br>
              <a:rPr sz="3200"/>
            </a:br>
            <a:r>
              <a:rPr b="0" lang="it-IT" sz="2400" spc="-1" strike="noStrike">
                <a:solidFill>
                  <a:srgbClr val="3333ff"/>
                </a:solidFill>
                <a:latin typeface="Times New Roman"/>
              </a:rPr>
              <a:t>(MISA2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° di morti per effetti acuti     444  </a:t>
            </a:r>
            <a:r>
              <a:rPr b="1" lang="it-IT" sz="2200" spc="-1" strike="noStrike">
                <a:solidFill>
                  <a:srgbClr val="0000cc"/>
                </a:solidFill>
                <a:latin typeface="Times New Roman"/>
              </a:rPr>
              <a:t>(162-6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° di ricoveri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        627  </a:t>
            </a:r>
            <a:r>
              <a:rPr b="1" lang="it-IT" sz="2200" spc="-1" strike="noStrike">
                <a:solidFill>
                  <a:srgbClr val="0000cc"/>
                </a:solidFill>
                <a:latin typeface="Times New Roman"/>
              </a:rPr>
              <a:t>(459-84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° di bronchiti acute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     6.235  </a:t>
            </a:r>
            <a:r>
              <a:rPr b="1" lang="it-IT" sz="2200" spc="-1" strike="noStrike">
                <a:solidFill>
                  <a:srgbClr val="0000cc"/>
                </a:solidFill>
                <a:latin typeface="Times New Roman"/>
              </a:rPr>
              <a:t>(4081-707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° di visite al P.S. per asm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ei bambini (0-14 anni)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     6.055  </a:t>
            </a:r>
            <a:r>
              <a:rPr b="1" lang="it-IT" sz="2200" spc="-1" strike="noStrike">
                <a:solidFill>
                  <a:srgbClr val="0000cc"/>
                </a:solidFill>
                <a:latin typeface="Times New Roman"/>
              </a:rPr>
              <a:t>(5646-645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47640" y="6506640"/>
            <a:ext cx="70549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ff"/>
                </a:solidFill>
                <a:latin typeface="Arial"/>
              </a:rPr>
              <a:t>Kunzli et al. </a:t>
            </a:r>
            <a:r>
              <a:rPr b="1" i="1" lang="it-IT" sz="1600" spc="-1" strike="noStrike">
                <a:solidFill>
                  <a:srgbClr val="3333ff"/>
                </a:solidFill>
                <a:latin typeface="Arial"/>
              </a:rPr>
              <a:t>The Lancet</a:t>
            </a:r>
            <a:r>
              <a:rPr b="1" lang="it-IT" sz="1600" spc="-1" strike="noStrike">
                <a:solidFill>
                  <a:srgbClr val="3333ff"/>
                </a:solidFill>
                <a:latin typeface="Arial"/>
              </a:rPr>
              <a:t>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907920"/>
          <a:ext cx="8713800" cy="5656320"/>
        </p:xfrm>
        <a:graphic>
          <a:graphicData uri="http://schemas.openxmlformats.org/drawingml/2006/table">
            <a:tbl>
              <a:tblPr/>
              <a:tblGrid>
                <a:gridCol w="2892240"/>
                <a:gridCol w="1200240"/>
                <a:gridCol w="1668600"/>
                <a:gridCol w="1512720"/>
                <a:gridCol w="144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ischio rel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asi per 10mcg/m3 PM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asi per 40mcg/m3 PM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asi per Napoli (45 mcg/m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ortalità totale (&gt;3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icoveri m.respirato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icoveri m.cardi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cidenza bronchite cronica (adulti&gt;2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pisodi bronch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(bambini&lt;1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ttacchi as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(adulti &gt;2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5.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8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ttacchi asma (bambini&lt;1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79280" y="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tima degli effetti sanitari del PM10 su 1 milione di persone e applicazione di tali stime alla situazione napole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% di morti per tumore attribuibili all’inquinamento atmosferico 6% (1 – 15%)</a:t>
            </a:r>
            <a:br>
              <a:rPr sz="3200"/>
            </a:b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cioè 6.000-8.000 all’anno in Italia</a:t>
            </a:r>
            <a:br>
              <a:rPr sz="3200"/>
            </a:br>
            <a:br>
              <a:rPr sz="2400"/>
            </a:b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% di morti per broncopatie croniche 20%</a:t>
            </a:r>
            <a:br>
              <a:rPr sz="3200"/>
            </a:b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Cioè 7.000 all’anno in Italia</a:t>
            </a:r>
            <a:br>
              <a:rPr sz="3200"/>
            </a:br>
            <a:br>
              <a:rPr sz="2400"/>
            </a:b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Stima delle morti totali da inquinamento atmosferico in Italia: 30.000-40.000 all’a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60280"/>
            <a:ext cx="770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33ff"/>
                </a:solidFill>
                <a:latin typeface="Times New Roman"/>
              </a:rPr>
              <a:t>Danni non acuti dovuti all’inquinamento atmosferic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7:01:41Z</dcterms:created>
  <dc:creator>KRAUSS</dc:creator>
  <dc:description/>
  <dc:language>en-US</dc:language>
  <cp:lastModifiedBy>chiara russo krauss</cp:lastModifiedBy>
  <dcterms:modified xsi:type="dcterms:W3CDTF">2008-09-24T12:18:00Z</dcterms:modified>
  <cp:revision>29</cp:revision>
  <dc:subject/>
  <dc:title>Come si fa ad affermare che l’inquinamento è causa di una determinata patologia? </dc:title>
</cp:coreProperties>
</file>